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7.png" ContentType="image/png"/>
  <Override PartName="/ppt/media/image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2D7F2-BDCC-490A-B337-5FDBFD18757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693D3-601C-49BE-914D-9875B1E0831D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C71DE-132D-4113-8A10-96B5A3CF0513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A9A50-8640-48CC-93E9-41F7BB9A0FD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47379-30D7-4F51-9555-007CC42EC0D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529A6-9FF0-42FA-8BA0-D35E723EB4EB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5551-6A47-414B-8F11-A7A59B474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749F-6726-4AC1-A195-35E6A0F8E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A620-B2A3-4767-A0A3-851E267B6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8EF9-4CB8-428E-8386-345608867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39D6-90CA-46B6-B737-DE964AFC2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EC3D-D1F2-40E6-8208-7C5032E8D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AF85-3FF0-4065-9430-8EEBB57C3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4478-0166-4CA2-AAB8-BA77A291A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615C-4833-4239-928A-D1975B6E0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E297-1F19-41F8-A4BC-6AF6ED5A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89DB-0F05-4247-A2E9-A80AB9C0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E47C-89EC-4DF2-91E8-DAF5DFA3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6A289-1370-4C11-BB91-0FCFE28F9498}" type="slidenum">
              <a:rPr b="0" lang="it-I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17.xml"/><Relationship Id="rId6" Type="http://schemas.openxmlformats.org/officeDocument/2006/relationships/image" Target="../media/image2.jpeg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slide" Target="slide3.xml"/><Relationship Id="rId12" Type="http://schemas.openxmlformats.org/officeDocument/2006/relationships/slide" Target="slide3.xml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it.wikipedia.org/wiki/Simbolo" TargetMode="External"/><Relationship Id="rId3" Type="http://schemas.openxmlformats.org/officeDocument/2006/relationships/hyperlink" Target="http://it.wikipedia.org/wiki/Politica" TargetMode="External"/><Relationship Id="rId4" Type="http://schemas.openxmlformats.org/officeDocument/2006/relationships/hyperlink" Target="http://it.wikipedia.org/wiki/Movimento_operaio" TargetMode="External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13.xml"/><Relationship Id="rId4" Type="http://schemas.openxmlformats.org/officeDocument/2006/relationships/slide" Target="slide19.xml"/><Relationship Id="rId5" Type="http://schemas.openxmlformats.org/officeDocument/2006/relationships/slide" Target="slide12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357120" y="571680"/>
            <a:ext cx="8072640" cy="785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Calibri"/>
                <a:ea typeface="Arial Unicode MS"/>
              </a:rPr>
              <a:t>TRE RIVOLUZIONI INDUSTRIAL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214280" y="2000160"/>
            <a:ext cx="6708960" cy="4071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sp>
        <p:nvSpPr>
          <p:cNvPr id="50" name="Oval 3"/>
          <p:cNvSpPr/>
          <p:nvPr/>
        </p:nvSpPr>
        <p:spPr>
          <a:xfrm>
            <a:off x="2714760" y="2357280"/>
            <a:ext cx="1071360" cy="113688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5"/>
          <p:cNvSpPr/>
          <p:nvPr/>
        </p:nvSpPr>
        <p:spPr>
          <a:xfrm flipH="1" rot="10200000">
            <a:off x="3645000" y="3736080"/>
            <a:ext cx="1854000" cy="602280"/>
          </a:xfrm>
          <a:custGeom>
            <a:avLst/>
            <a:gdLst>
              <a:gd name="textAreaLeft" fmla="*/ 360 w 1854000"/>
              <a:gd name="textAreaRight" fmla="*/ 1854720 w 1854000"/>
              <a:gd name="textAreaTop" fmla="*/ 0 h 602280"/>
              <a:gd name="textAreaBottom" fmla="*/ 602280 h 602280"/>
            </a:gdLst>
            <a:ahLst/>
            <a:rect l="textAreaLeft" t="textAreaTop" r="textAreaRight" b="textAreaBottom"/>
            <a:pathLst>
              <a:path fill="none" w="26985" h="23280">
                <a:moveTo>
                  <a:pt x="0" y="682"/>
                </a:moveTo>
                <a:cubicBezTo>
                  <a:pt x="1759" y="229"/>
                  <a:pt x="3568" y="-1"/>
                  <a:pt x="5385" y="0"/>
                </a:cubicBezTo>
                <a:cubicBezTo>
                  <a:pt x="17314" y="0"/>
                  <a:pt x="26985" y="9670"/>
                  <a:pt x="26985" y="21600"/>
                </a:cubicBezTo>
                <a:cubicBezTo>
                  <a:pt x="26985" y="22160"/>
                  <a:pt x="26963" y="22721"/>
                  <a:pt x="26919" y="23279"/>
                </a:cubicBezTo>
              </a:path>
              <a:path stroke="0" w="26985" h="23280">
                <a:moveTo>
                  <a:pt x="0" y="682"/>
                </a:moveTo>
                <a:cubicBezTo>
                  <a:pt x="1759" y="229"/>
                  <a:pt x="3568" y="-1"/>
                  <a:pt x="5385" y="0"/>
                </a:cubicBezTo>
                <a:cubicBezTo>
                  <a:pt x="17314" y="0"/>
                  <a:pt x="26985" y="9670"/>
                  <a:pt x="26985" y="21600"/>
                </a:cubicBezTo>
                <a:cubicBezTo>
                  <a:pt x="26985" y="22160"/>
                  <a:pt x="26963" y="22721"/>
                  <a:pt x="26919" y="23279"/>
                </a:cubicBezTo>
                <a:lnTo>
                  <a:pt x="5385" y="21600"/>
                </a:lnTo>
                <a:close/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6"/>
          <p:cNvSpPr/>
          <p:nvPr/>
        </p:nvSpPr>
        <p:spPr>
          <a:xfrm flipH="1" rot="9720000">
            <a:off x="3690000" y="3709440"/>
            <a:ext cx="958680" cy="461880"/>
          </a:xfrm>
          <a:custGeom>
            <a:avLst/>
            <a:gdLst>
              <a:gd name="textAreaLeft" fmla="*/ -360 w 958680"/>
              <a:gd name="textAreaRight" fmla="*/ 958680 w 95868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fill="none" w="26985" h="23280">
                <a:moveTo>
                  <a:pt x="0" y="682"/>
                </a:moveTo>
                <a:cubicBezTo>
                  <a:pt x="1759" y="229"/>
                  <a:pt x="3568" y="-1"/>
                  <a:pt x="5385" y="0"/>
                </a:cubicBezTo>
                <a:cubicBezTo>
                  <a:pt x="17314" y="0"/>
                  <a:pt x="26985" y="9670"/>
                  <a:pt x="26985" y="21600"/>
                </a:cubicBezTo>
                <a:cubicBezTo>
                  <a:pt x="26985" y="22160"/>
                  <a:pt x="26963" y="22721"/>
                  <a:pt x="26919" y="23279"/>
                </a:cubicBezTo>
              </a:path>
              <a:path stroke="0" w="26985" h="23280">
                <a:moveTo>
                  <a:pt x="0" y="682"/>
                </a:moveTo>
                <a:cubicBezTo>
                  <a:pt x="1759" y="229"/>
                  <a:pt x="3568" y="-1"/>
                  <a:pt x="5385" y="0"/>
                </a:cubicBezTo>
                <a:cubicBezTo>
                  <a:pt x="17314" y="0"/>
                  <a:pt x="26985" y="9670"/>
                  <a:pt x="26985" y="21600"/>
                </a:cubicBezTo>
                <a:cubicBezTo>
                  <a:pt x="26985" y="22160"/>
                  <a:pt x="26963" y="22721"/>
                  <a:pt x="26919" y="23279"/>
                </a:cubicBezTo>
                <a:lnTo>
                  <a:pt x="5385" y="21600"/>
                </a:lnTo>
                <a:close/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55640" y="4941720"/>
            <a:ext cx="360036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SECONDA RIVOLUZIONE </a:t>
            </a:r>
            <a:r>
              <a:rPr b="0" lang="it-IT" sz="14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INDUSTRI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1870 - 19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8"/>
          <p:cNvSpPr/>
          <p:nvPr/>
        </p:nvSpPr>
        <p:spPr>
          <a:xfrm flipH="1" rot="10200000">
            <a:off x="3987720" y="3672000"/>
            <a:ext cx="2727360" cy="902880"/>
          </a:xfrm>
          <a:custGeom>
            <a:avLst/>
            <a:gdLst>
              <a:gd name="textAreaLeft" fmla="*/ 360 w 2727360"/>
              <a:gd name="textAreaRight" fmla="*/ 2728080 w 2727360"/>
              <a:gd name="textAreaTop" fmla="*/ 0 h 902880"/>
              <a:gd name="textAreaBottom" fmla="*/ 903240 h 902880"/>
            </a:gdLst>
            <a:ahLst/>
            <a:rect l="textAreaLeft" t="textAreaTop" r="textAreaRight" b="textAreaBottom"/>
            <a:pathLst>
              <a:path fill="none" w="26985" h="27501">
                <a:moveTo>
                  <a:pt x="0" y="682"/>
                </a:moveTo>
                <a:cubicBezTo>
                  <a:pt x="1759" y="229"/>
                  <a:pt x="3568" y="-1"/>
                  <a:pt x="5385" y="0"/>
                </a:cubicBezTo>
                <a:cubicBezTo>
                  <a:pt x="17314" y="0"/>
                  <a:pt x="26985" y="9670"/>
                  <a:pt x="26985" y="21600"/>
                </a:cubicBezTo>
                <a:cubicBezTo>
                  <a:pt x="26985" y="23595"/>
                  <a:pt x="26708" y="25581"/>
                  <a:pt x="26163" y="27501"/>
                </a:cubicBezTo>
              </a:path>
              <a:path stroke="0" w="26985" h="27501">
                <a:moveTo>
                  <a:pt x="0" y="682"/>
                </a:moveTo>
                <a:cubicBezTo>
                  <a:pt x="1759" y="229"/>
                  <a:pt x="3568" y="-1"/>
                  <a:pt x="5385" y="0"/>
                </a:cubicBezTo>
                <a:cubicBezTo>
                  <a:pt x="17314" y="0"/>
                  <a:pt x="26985" y="9670"/>
                  <a:pt x="26985" y="21600"/>
                </a:cubicBezTo>
                <a:cubicBezTo>
                  <a:pt x="26985" y="23595"/>
                  <a:pt x="26708" y="25581"/>
                  <a:pt x="26163" y="27501"/>
                </a:cubicBezTo>
                <a:lnTo>
                  <a:pt x="5385" y="21600"/>
                </a:lnTo>
                <a:close/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1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500800" y="4595760"/>
            <a:ext cx="2898720" cy="18576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56" name="CasellaDiTesto 13"/>
          <p:cNvSpPr/>
          <p:nvPr/>
        </p:nvSpPr>
        <p:spPr>
          <a:xfrm>
            <a:off x="4429080" y="2286000"/>
            <a:ext cx="30225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0000ff"/>
                </a:solidFill>
                <a:uFillTx/>
                <a:latin typeface="Calibri"/>
                <a:hlinkClick r:id="rId7" action="ppaction://hlinksldjump"/>
              </a:rPr>
              <a:t>PRIMA RIVOLUZIONE INDUSTRI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0000ff"/>
                </a:solidFill>
                <a:uFillTx/>
                <a:latin typeface="Calibri"/>
                <a:hlinkClick r:id="rId8" action="ppaction://hlinksldjump"/>
              </a:rPr>
              <a:t> fine </a:t>
            </a:r>
            <a:r>
              <a:rPr b="0" lang="it-IT" sz="1400" spc="-1" strike="noStrike" u="sng">
                <a:solidFill>
                  <a:srgbClr val="0000ff"/>
                </a:solidFill>
                <a:uFillTx/>
                <a:latin typeface="Calibri"/>
                <a:hlinkClick r:id="rId9" action="ppaction://hlinksldjump"/>
              </a:rPr>
              <a:t>Settecento</a:t>
            </a:r>
            <a:r>
              <a:rPr b="0" lang="it-IT" sz="1400" spc="-1" strike="noStrike" u="sng">
                <a:solidFill>
                  <a:srgbClr val="0000ff"/>
                </a:solidFill>
                <a:uFillTx/>
                <a:latin typeface="Calibri"/>
                <a:hlinkClick r:id="rId10" action="ppaction://hlinksldjump"/>
              </a:rPr>
              <a:t> - 18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500800" y="6143760"/>
            <a:ext cx="3392280" cy="52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0000ff"/>
                </a:solidFill>
                <a:uFillTx/>
                <a:latin typeface="Calibri"/>
                <a:hlinkClick r:id="rId11" action="ppaction://hlinksldjump"/>
              </a:rPr>
              <a:t>TERZA RIVOLUZIONE INDUSTRI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0000ff"/>
                </a:solidFill>
                <a:uFillTx/>
                <a:latin typeface="Calibri"/>
                <a:hlinkClick r:id="rId12" action="ppaction://hlinksldjump"/>
              </a:rPr>
              <a:t>1945- ogg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Segnaposto contenuto 3" descr=""/>
          <p:cNvPicPr/>
          <p:nvPr/>
        </p:nvPicPr>
        <p:blipFill>
          <a:blip r:embed="rId1"/>
          <a:stretch/>
        </p:blipFill>
        <p:spPr>
          <a:xfrm>
            <a:off x="433440" y="457200"/>
            <a:ext cx="835020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b050"/>
                </a:solidFill>
                <a:latin typeface="Calibri"/>
              </a:rPr>
              <a:t>IL MOVIMENTO SOCIALIS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E’nato come movimento di idee e poi come movimento politic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Di fronte alle durissime condizioni di vita degli operai i socialisti sostenevano che occorreva costruire una </a:t>
            </a:r>
            <a:r>
              <a:rPr b="1" i="1" lang="it-IT" sz="3000" spc="-1" strike="noStrike">
                <a:solidFill>
                  <a:srgbClr val="ff0000"/>
                </a:solidFill>
                <a:latin typeface="Calibri"/>
              </a:rPr>
              <a:t>società nuova 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nella quale la </a:t>
            </a:r>
            <a:r>
              <a:rPr b="1" i="1" lang="it-IT" sz="3000" spc="-1" strike="noStrike">
                <a:solidFill>
                  <a:srgbClr val="ff0000"/>
                </a:solidFill>
                <a:latin typeface="Calibri"/>
              </a:rPr>
              <a:t>proprietà privata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, fonte principale delle ingiustizie sociali e dello sfruttamento operaio, non avrebbe più dovuto esister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In particolare, non doveva più esistere la </a:t>
            </a:r>
            <a:r>
              <a:rPr b="1" i="1" lang="it-IT" sz="3000" spc="-1" strike="noStrike">
                <a:solidFill>
                  <a:srgbClr val="ff0000"/>
                </a:solidFill>
                <a:latin typeface="Calibri"/>
              </a:rPr>
              <a:t>proprietà privata dei mezzi di produzione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MEZZI DI PRODUZIO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STABILIMEN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MACCHINARI NECESSARI ALLA FABBRICAZIONE DEI PRODOT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Possedendo le macchine, i proprietari delle fabbriche potevano arricchirsi sfruttando il lavoro di chi non possedeva niente se non la forza delle proprie braccia (forza-lavor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1" lang="it-IT" sz="3200" spc="-1" strike="noStrike">
                <a:solidFill>
                  <a:srgbClr val="ff0000"/>
                </a:solidFill>
                <a:latin typeface="Calibri"/>
              </a:rPr>
              <a:t>SOCIALISTI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ipotizzavano una SOCIETA’ DIVERSA fondat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sulla  </a:t>
            </a:r>
            <a:r>
              <a:rPr b="1" i="1" lang="it-IT" sz="3200" spc="-1" strike="noStrike">
                <a:solidFill>
                  <a:srgbClr val="ff0000"/>
                </a:solidFill>
                <a:latin typeface="Calibri"/>
              </a:rPr>
              <a:t>proprietà comune 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sui valori di </a:t>
            </a:r>
            <a:r>
              <a:rPr b="1" i="1" lang="it-IT" sz="3200" spc="-1" strike="noStrike">
                <a:solidFill>
                  <a:srgbClr val="ff0000"/>
                </a:solidFill>
                <a:latin typeface="Calibri"/>
              </a:rPr>
              <a:t>uguaglianza 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i="1" lang="it-IT" sz="3200" spc="-1" strike="noStrike">
                <a:solidFill>
                  <a:srgbClr val="ff0000"/>
                </a:solidFill>
                <a:latin typeface="Calibri"/>
              </a:rPr>
              <a:t>solidariet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Un contributo decisivo alla costruzione del socialismo fu dato da (segue…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4"/>
          <p:cNvSpPr txBox="1"/>
          <p:nvPr/>
        </p:nvSpPr>
        <p:spPr>
          <a:xfrm>
            <a:off x="2484360" y="692280"/>
            <a:ext cx="51120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spac821 BT"/>
              </a:rPr>
              <a:t>Karl Marx</a:t>
            </a:r>
            <a:endParaRPr b="1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spac821 BT"/>
              <a:ea typeface="Monospac821 BT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395280" y="2708280"/>
            <a:ext cx="370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arx definiva “</a:t>
            </a:r>
            <a:r>
              <a:rPr b="0" i="1" lang="it-IT" sz="1800" spc="-1" strike="noStrike">
                <a:solidFill>
                  <a:srgbClr val="009999"/>
                </a:solidFill>
                <a:latin typeface="Arial"/>
              </a:rPr>
              <a:t>utopist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” i primi pensatori socialisti perché le loro teorie difficilmente potevano essere messe in pratica. Lui stesso affermò che i loro pensieri erano buoni, ma per costruire </a:t>
            </a:r>
            <a:r>
              <a:rPr b="0" i="1" lang="it-IT" sz="1800" spc="-1" strike="noStrike">
                <a:solidFill>
                  <a:srgbClr val="009999"/>
                </a:solidFill>
                <a:latin typeface="Arial"/>
              </a:rPr>
              <a:t>una società ideal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bisognava cercare </a:t>
            </a:r>
            <a:r>
              <a:rPr b="0" i="1" lang="it-IT" sz="1800" spc="-1" strike="noStrike">
                <a:solidFill>
                  <a:srgbClr val="009999"/>
                </a:solidFill>
                <a:latin typeface="Arial"/>
              </a:rPr>
              <a:t>i mezz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per farl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karl-marx"/>
          <p:cNvPicPr/>
          <p:nvPr/>
        </p:nvPicPr>
        <p:blipFill>
          <a:blip r:embed="rId1"/>
          <a:stretch/>
        </p:blipFill>
        <p:spPr>
          <a:xfrm>
            <a:off x="4427640" y="2060640"/>
            <a:ext cx="422892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Segnaposto contenuto 3" descr=""/>
          <p:cNvPicPr/>
          <p:nvPr/>
        </p:nvPicPr>
        <p:blipFill>
          <a:blip r:embed="rId1"/>
          <a:stretch/>
        </p:blipFill>
        <p:spPr>
          <a:xfrm>
            <a:off x="450720" y="396720"/>
            <a:ext cx="8242560" cy="573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b050"/>
                </a:solidFill>
                <a:latin typeface="Calibri"/>
              </a:rPr>
              <a:t>CAPIT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E’ LA RICCHEZZA POSSEDUTA DA UNA PERSONA O DA UN’IMPRE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RESCE E SI RIGENERA ATTRAVERSO LE ATTIVITA’ PRODUTTIVE E GLI INVESTIMEN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APITALISMO (termine coniato da Marx): è un sistema economico e sociale nel quale prevale la proprietà privata del capitale. Questo genera il conflitto tra capitalisti-proprietari e i lavorator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l</a:t>
            </a:r>
            <a:r>
              <a:rPr b="1" lang="it-IT" sz="3200" spc="-1" strike="noStrike">
                <a:solidFill>
                  <a:srgbClr val="00b050"/>
                </a:solidFill>
                <a:latin typeface="Calibri"/>
              </a:rPr>
              <a:t> capitalista 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offriva all’operaio un </a:t>
            </a:r>
            <a:r>
              <a:rPr b="1" lang="it-IT" sz="3200" spc="-1" strike="noStrike">
                <a:solidFill>
                  <a:srgbClr val="00b050"/>
                </a:solidFill>
                <a:latin typeface="Calibri"/>
              </a:rPr>
              <a:t>salario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(basso)con il quale </a:t>
            </a:r>
            <a:r>
              <a:rPr b="1" lang="it-IT" sz="3200" spc="-1" strike="noStrike">
                <a:solidFill>
                  <a:srgbClr val="00b050"/>
                </a:solidFill>
                <a:latin typeface="Calibri"/>
              </a:rPr>
              <a:t>pagava la “forza-lavoro” 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dell’operaio come una merce qualsiasi. Poi vendeva ad un prezzo da lui stabilito il manufatto (oggetto fatto a mano) in modo da avere un profitto (guadagno) personal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L’</a:t>
            </a:r>
            <a:r>
              <a:rPr b="1" lang="it-IT" sz="3200" spc="-1" strike="noStrike">
                <a:solidFill>
                  <a:srgbClr val="00b050"/>
                </a:solidFill>
                <a:latin typeface="Calibri"/>
              </a:rPr>
              <a:t>operaio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veniva </a:t>
            </a:r>
            <a:r>
              <a:rPr b="1" lang="it-IT" sz="3200" spc="-1" strike="noStrike">
                <a:solidFill>
                  <a:srgbClr val="00b050"/>
                </a:solidFill>
                <a:latin typeface="Calibri"/>
              </a:rPr>
              <a:t>pagato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con una </a:t>
            </a:r>
            <a:r>
              <a:rPr b="1" lang="it-IT" sz="3200" spc="-1" strike="noStrike">
                <a:solidFill>
                  <a:srgbClr val="00b050"/>
                </a:solidFill>
                <a:latin typeface="Calibri"/>
              </a:rPr>
              <a:t>cifra molto inferiore 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rispetto al valore dei beni prodott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4"/>
          <p:cNvSpPr txBox="1"/>
          <p:nvPr/>
        </p:nvSpPr>
        <p:spPr>
          <a:xfrm>
            <a:off x="539640" y="620640"/>
            <a:ext cx="8305920" cy="8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Eras Demi ITC"/>
              </a:rPr>
              <a:t>La Lotta Di Classe E I Sindacat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Eras Demi ITC"/>
              <a:ea typeface="Eras Demi ITC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395280" y="1822320"/>
            <a:ext cx="3024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arx ed Engels sostenevano che </a:t>
            </a:r>
            <a:r>
              <a:rPr b="0" i="1" lang="it-IT" sz="1800" spc="-1" strike="noStrike">
                <a:solidFill>
                  <a:srgbClr val="009999"/>
                </a:solidFill>
                <a:latin typeface="Arial"/>
              </a:rPr>
              <a:t>gli opera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ovevano unirsi per combattere </a:t>
            </a:r>
            <a:r>
              <a:rPr b="0" i="1" lang="it-IT" sz="1800" spc="-1" strike="noStrike">
                <a:solidFill>
                  <a:srgbClr val="009999"/>
                </a:solidFill>
                <a:latin typeface="Arial"/>
              </a:rPr>
              <a:t>il “nemico”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1800" spc="-1" strike="noStrike">
                <a:solidFill>
                  <a:srgbClr val="009999"/>
                </a:solidFill>
                <a:latin typeface="Arial"/>
              </a:rPr>
              <a:t>capitalist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 Nel 1848 pubblicarono  un piccolo volume </a:t>
            </a:r>
            <a:r>
              <a:rPr b="0" i="1" lang="it-IT" sz="1800" spc="-1" strike="noStrike">
                <a:solidFill>
                  <a:srgbClr val="009999"/>
                </a:solidFill>
                <a:latin typeface="Arial"/>
              </a:rPr>
              <a:t>“Il Manifesto Del</a:t>
            </a:r>
            <a:r>
              <a:rPr b="0" lang="it-IT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i="1" lang="it-IT" sz="1800" spc="-1" strike="noStrike">
                <a:solidFill>
                  <a:srgbClr val="009999"/>
                </a:solidFill>
                <a:latin typeface="Arial"/>
              </a:rPr>
              <a:t>Partito Comunista”</a:t>
            </a:r>
            <a:r>
              <a:rPr b="0" lang="it-IT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he invitava tutti ad unirsi per creare un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IVOLUZIONE.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a qui nacque </a:t>
            </a:r>
            <a:r>
              <a:rPr b="0" i="1" lang="it-IT" sz="1800" spc="-1" strike="noStrike">
                <a:solidFill>
                  <a:srgbClr val="009999"/>
                </a:solidFill>
                <a:latin typeface="Arial"/>
              </a:rPr>
              <a:t>il Comunism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 Negli Stati Uniti </a:t>
            </a:r>
            <a:r>
              <a:rPr b="0" i="1" lang="it-IT" sz="1800" spc="-1" strike="noStrike">
                <a:solidFill>
                  <a:srgbClr val="009999"/>
                </a:solidFill>
                <a:latin typeface="Arial"/>
              </a:rPr>
              <a:t>la National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1800" spc="-1" strike="noStrike">
                <a:solidFill>
                  <a:srgbClr val="009999"/>
                </a:solidFill>
                <a:latin typeface="Arial"/>
              </a:rPr>
              <a:t>Labour Union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nel 1872, riuscì ad ottenere le otto ore giornaliere lavorative. Nacquero anche i primi </a:t>
            </a:r>
            <a:r>
              <a:rPr b="0" i="1" lang="it-IT" sz="1800" spc="-1" strike="noStrike">
                <a:solidFill>
                  <a:srgbClr val="009999"/>
                </a:solidFill>
                <a:latin typeface="Arial"/>
              </a:rPr>
              <a:t>sindacat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mzl_abfhbkvq_320x480-75"/>
          <p:cNvPicPr/>
          <p:nvPr/>
        </p:nvPicPr>
        <p:blipFill>
          <a:blip r:embed="rId1"/>
          <a:stretch/>
        </p:blipFill>
        <p:spPr>
          <a:xfrm>
            <a:off x="5435640" y="1628640"/>
            <a:ext cx="3294000" cy="4942080"/>
          </a:xfrm>
          <a:prstGeom prst="rect">
            <a:avLst/>
          </a:prstGeom>
          <a:ln w="0">
            <a:noFill/>
          </a:ln>
        </p:spPr>
      </p:pic>
      <p:sp>
        <p:nvSpPr>
          <p:cNvPr id="110" name="Line 10"/>
          <p:cNvSpPr/>
          <p:nvPr/>
        </p:nvSpPr>
        <p:spPr>
          <a:xfrm>
            <a:off x="2268360" y="242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1"/>
          <p:cNvSpPr/>
          <p:nvPr/>
        </p:nvSpPr>
        <p:spPr>
          <a:xfrm>
            <a:off x="1692360" y="2924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2"/>
          <p:cNvSpPr/>
          <p:nvPr/>
        </p:nvSpPr>
        <p:spPr>
          <a:xfrm>
            <a:off x="539640" y="3213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3"/>
          <p:cNvSpPr/>
          <p:nvPr/>
        </p:nvSpPr>
        <p:spPr>
          <a:xfrm>
            <a:off x="1332000" y="378936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5"/>
          <p:cNvSpPr/>
          <p:nvPr/>
        </p:nvSpPr>
        <p:spPr>
          <a:xfrm>
            <a:off x="539640" y="407664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9"/>
          <p:cNvSpPr/>
          <p:nvPr/>
        </p:nvSpPr>
        <p:spPr>
          <a:xfrm>
            <a:off x="539640" y="54450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4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4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4"/>
          <p:cNvSpPr txBox="1"/>
          <p:nvPr/>
        </p:nvSpPr>
        <p:spPr>
          <a:xfrm>
            <a:off x="1258920" y="476280"/>
            <a:ext cx="682956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Blackadder ITC"/>
              </a:rPr>
              <a:t>La Nascita Del Partito Socialista</a:t>
            </a:r>
            <a:endParaRPr b="1" lang="en-US" sz="4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Blackadder ITC"/>
              <a:ea typeface="Blackadder ITC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395280" y="1628640"/>
            <a:ext cx="266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er rafforzare ancora i loro diritti, gli operai si riunirono </a:t>
            </a:r>
            <a:r>
              <a:rPr b="0" lang="it-IT" sz="1800" spc="-1" strike="noStrike">
                <a:solidFill>
                  <a:srgbClr val="009999"/>
                </a:solidFill>
                <a:latin typeface="Arial"/>
              </a:rPr>
              <a:t>a congress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nel 1864 a Londra. Fu fondata </a:t>
            </a:r>
            <a:r>
              <a:rPr b="0" lang="it-IT" sz="1800" spc="-1" strike="noStrike">
                <a:solidFill>
                  <a:srgbClr val="009999"/>
                </a:solidFill>
                <a:latin typeface="Arial"/>
              </a:rPr>
              <a:t>L’Associazione Internazionale De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9999"/>
                </a:solidFill>
                <a:latin typeface="Arial"/>
              </a:rPr>
              <a:t>Lavorator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denominata </a:t>
            </a:r>
            <a:r>
              <a:rPr b="0" lang="it-IT" sz="1800" spc="-1" strike="noStrike">
                <a:solidFill>
                  <a:srgbClr val="009999"/>
                </a:solidFill>
                <a:latin typeface="Arial"/>
              </a:rPr>
              <a:t>Prima Internazional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che coordinava il movimento operaio mondiale. Così si diede vita ai partiti socialist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SED-Logo"/>
          <p:cNvPicPr/>
          <p:nvPr/>
        </p:nvPicPr>
        <p:blipFill>
          <a:blip r:embed="rId1"/>
          <a:stretch/>
        </p:blipFill>
        <p:spPr>
          <a:xfrm>
            <a:off x="4435560" y="1484280"/>
            <a:ext cx="1371600" cy="16574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8"/>
          <p:cNvSpPr/>
          <p:nvPr/>
        </p:nvSpPr>
        <p:spPr>
          <a:xfrm>
            <a:off x="6012000" y="2060640"/>
            <a:ext cx="31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9999"/>
                </a:solidFill>
                <a:latin typeface="Arial"/>
              </a:rPr>
              <a:t>Partito socialdemocratic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nato in Germania nel 18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9" descr="partito_socialista_italiano"/>
          <p:cNvPicPr/>
          <p:nvPr/>
        </p:nvPicPr>
        <p:blipFill>
          <a:blip r:embed="rId2"/>
          <a:stretch/>
        </p:blipFill>
        <p:spPr>
          <a:xfrm>
            <a:off x="4572000" y="3213000"/>
            <a:ext cx="1292400" cy="13683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0"/>
          <p:cNvSpPr/>
          <p:nvPr/>
        </p:nvSpPr>
        <p:spPr>
          <a:xfrm>
            <a:off x="6156360" y="357336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9999"/>
                </a:solidFill>
                <a:latin typeface="Arial"/>
              </a:rPr>
              <a:t>Partito socialist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nato in Italia nel 189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1" descr="Partit_laburista_logo"/>
          <p:cNvPicPr/>
          <p:nvPr/>
        </p:nvPicPr>
        <p:blipFill>
          <a:blip r:embed="rId3"/>
          <a:stretch/>
        </p:blipFill>
        <p:spPr>
          <a:xfrm>
            <a:off x="4140360" y="5084640"/>
            <a:ext cx="2376360" cy="11574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2"/>
          <p:cNvSpPr/>
          <p:nvPr/>
        </p:nvSpPr>
        <p:spPr>
          <a:xfrm>
            <a:off x="6804000" y="5373720"/>
            <a:ext cx="21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9999"/>
                </a:solidFill>
                <a:latin typeface="Arial"/>
              </a:rPr>
              <a:t>Partito laburist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nato in Inghilterra nel 18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>
            <a:off x="1476360" y="24922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>
            <a:off x="1332000" y="306864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8"/>
          <p:cNvSpPr/>
          <p:nvPr/>
        </p:nvSpPr>
        <p:spPr>
          <a:xfrm>
            <a:off x="468360" y="3357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9"/>
          <p:cNvSpPr/>
          <p:nvPr/>
        </p:nvSpPr>
        <p:spPr>
          <a:xfrm>
            <a:off x="468360" y="3573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0"/>
          <p:cNvSpPr/>
          <p:nvPr/>
        </p:nvSpPr>
        <p:spPr>
          <a:xfrm>
            <a:off x="539640" y="386064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1"/>
          <p:cNvSpPr/>
          <p:nvPr/>
        </p:nvSpPr>
        <p:spPr>
          <a:xfrm>
            <a:off x="6156360" y="234936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2"/>
          <p:cNvSpPr/>
          <p:nvPr/>
        </p:nvSpPr>
        <p:spPr>
          <a:xfrm>
            <a:off x="6300720" y="386064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4"/>
          <p:cNvSpPr/>
          <p:nvPr/>
        </p:nvSpPr>
        <p:spPr>
          <a:xfrm>
            <a:off x="6948360" y="566100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4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4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4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4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egnaposto numero diapositiva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690F5-61AB-4E46-A823-B9F999BB3B1C}" type="slidenum">
              <a:rPr b="0" lang="it-I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24000" y="555480"/>
          <a:ext cx="8424720" cy="5689800"/>
        </p:xfrm>
        <a:graphic>
          <a:graphicData uri="http://schemas.openxmlformats.org/drawingml/2006/table">
            <a:tbl>
              <a:tblPr/>
              <a:tblGrid>
                <a:gridCol w="2160360"/>
                <a:gridCol w="2592360"/>
                <a:gridCol w="2016360"/>
                <a:gridCol w="1655640"/>
              </a:tblGrid>
              <a:tr h="70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gresso tecnico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ttori trainan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i di produzione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ma Riv. In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latoio meccanico, telaio meccanico, macchina a vapore, ferrovia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tone e ferro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stema di fabbric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a Riv. In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ettricità e motore a scoppio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dustria chimica e siderurgica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telli, </a:t>
                      </a: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usts,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ylorismo e fordism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za Riv. In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formatica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ettronica, informa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duzione flessibile,  globalizzazion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Text Box 52"/>
          <p:cNvSpPr/>
          <p:nvPr/>
        </p:nvSpPr>
        <p:spPr>
          <a:xfrm>
            <a:off x="83818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4"/>
          <p:cNvSpPr txBox="1"/>
          <p:nvPr/>
        </p:nvSpPr>
        <p:spPr>
          <a:xfrm>
            <a:off x="2268360" y="476280"/>
            <a:ext cx="457200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Angsana New"/>
              </a:rPr>
              <a:t>L'Enciclica Rerum Novarum</a:t>
            </a:r>
            <a:endParaRPr b="1" lang="en-US" sz="4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395280" y="2060640"/>
            <a:ext cx="266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nche la </a:t>
            </a:r>
            <a:r>
              <a:rPr b="0" lang="it-IT" sz="1800" spc="-1" strike="noStrike">
                <a:solidFill>
                  <a:srgbClr val="009999"/>
                </a:solidFill>
                <a:latin typeface="Arial"/>
              </a:rPr>
              <a:t>Chiesa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ese posizione in questa vicenda. IL </a:t>
            </a:r>
            <a:r>
              <a:rPr b="0" lang="it-IT" sz="1800" spc="-1" strike="noStrike">
                <a:solidFill>
                  <a:srgbClr val="009999"/>
                </a:solidFill>
                <a:latin typeface="Arial"/>
              </a:rPr>
              <a:t>papa Leon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XIII promulgò </a:t>
            </a:r>
            <a:r>
              <a:rPr b="0" lang="it-IT" sz="1800" spc="-1" strike="noStrike">
                <a:solidFill>
                  <a:srgbClr val="009999"/>
                </a:solidFill>
                <a:latin typeface="Arial"/>
              </a:rPr>
              <a:t>l’enciclic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9999"/>
                </a:solidFill>
                <a:latin typeface="Arial"/>
              </a:rPr>
              <a:t>Rerum Novarum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 dice che tra </a:t>
            </a:r>
            <a:r>
              <a:rPr b="0" lang="it-IT" sz="1800" spc="-1" strike="noStrike">
                <a:solidFill>
                  <a:srgbClr val="009999"/>
                </a:solidFill>
                <a:latin typeface="Arial"/>
              </a:rPr>
              <a:t>l’imprenditor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it-IT" sz="1800" spc="-1" strike="noStrike">
                <a:solidFill>
                  <a:srgbClr val="009999"/>
                </a:solidFill>
                <a:latin typeface="Arial"/>
              </a:rPr>
              <a:t>il proletaria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ci deve  essere un rapporto di collaborazione. Gli imprenditori dovevano essere molto sensibili con i lavoratori, ma soprattutto dare salari più equ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rerum-novarum"/>
          <p:cNvPicPr/>
          <p:nvPr/>
        </p:nvPicPr>
        <p:blipFill>
          <a:blip r:embed="rId3"/>
          <a:stretch/>
        </p:blipFill>
        <p:spPr>
          <a:xfrm>
            <a:off x="5580000" y="1844640"/>
            <a:ext cx="2648160" cy="3900600"/>
          </a:xfrm>
          <a:prstGeom prst="rect">
            <a:avLst/>
          </a:prstGeom>
          <a:ln w="0">
            <a:noFill/>
          </a:ln>
        </p:spPr>
      </p:pic>
      <p:sp>
        <p:nvSpPr>
          <p:cNvPr id="135" name="Line 10"/>
          <p:cNvSpPr/>
          <p:nvPr/>
        </p:nvSpPr>
        <p:spPr>
          <a:xfrm>
            <a:off x="1476360" y="234936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1"/>
          <p:cNvSpPr/>
          <p:nvPr/>
        </p:nvSpPr>
        <p:spPr>
          <a:xfrm>
            <a:off x="1692360" y="2924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2"/>
          <p:cNvSpPr/>
          <p:nvPr/>
        </p:nvSpPr>
        <p:spPr>
          <a:xfrm>
            <a:off x="1908000" y="321300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3"/>
          <p:cNvSpPr/>
          <p:nvPr/>
        </p:nvSpPr>
        <p:spPr>
          <a:xfrm>
            <a:off x="539640" y="350028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4"/>
          <p:cNvSpPr/>
          <p:nvPr/>
        </p:nvSpPr>
        <p:spPr>
          <a:xfrm>
            <a:off x="1258920" y="3789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8"/>
          <p:cNvSpPr/>
          <p:nvPr/>
        </p:nvSpPr>
        <p:spPr>
          <a:xfrm>
            <a:off x="468360" y="400536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WordArt 4"/>
          <p:cNvSpPr txBox="1"/>
          <p:nvPr/>
        </p:nvSpPr>
        <p:spPr>
          <a:xfrm>
            <a:off x="1835280" y="476280"/>
            <a:ext cx="5545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Papyrus"/>
              </a:rPr>
              <a:t>I Simboli Del Comunismo</a:t>
            </a:r>
            <a:endParaRPr b="0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Papyrus"/>
              <a:ea typeface="Papyrus"/>
            </a:endParaRPr>
          </a:p>
        </p:txBody>
      </p:sp>
      <p:pic>
        <p:nvPicPr>
          <p:cNvPr id="142" name="Picture 5" descr="130px-Hammer_and_sickle_svg"/>
          <p:cNvPicPr/>
          <p:nvPr/>
        </p:nvPicPr>
        <p:blipFill>
          <a:blip r:embed="rId1"/>
          <a:stretch/>
        </p:blipFill>
        <p:spPr>
          <a:xfrm>
            <a:off x="395280" y="1916280"/>
            <a:ext cx="1238400" cy="12380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7"/>
          <p:cNvSpPr/>
          <p:nvPr/>
        </p:nvSpPr>
        <p:spPr>
          <a:xfrm>
            <a:off x="2411280" y="220500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FELCE E IL MARTELLO: L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alce e martell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è un </a:t>
            </a:r>
            <a:r>
              <a:rPr b="0" lang="it-IT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simbolo</a:t>
            </a: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olitic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el </a:t>
            </a:r>
            <a:r>
              <a:rPr b="0" lang="it-IT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movimento operai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8" descr="300px-Red_flag_II_svg"/>
          <p:cNvPicPr/>
          <p:nvPr/>
        </p:nvPicPr>
        <p:blipFill>
          <a:blip r:embed="rId5"/>
          <a:stretch/>
        </p:blipFill>
        <p:spPr>
          <a:xfrm>
            <a:off x="395280" y="3500280"/>
            <a:ext cx="1584360" cy="14004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9"/>
          <p:cNvSpPr/>
          <p:nvPr/>
        </p:nvSpPr>
        <p:spPr>
          <a:xfrm>
            <a:off x="2340000" y="3500280"/>
            <a:ext cx="60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bandiera rossa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è un emblema socialista e comunista, associato in particolare alla sinistra rivoluzionaria e alle tradizioni socialdemocratiche e sindacal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0" descr="1maggio2010_54_15126"/>
          <p:cNvPicPr/>
          <p:nvPr/>
        </p:nvPicPr>
        <p:blipFill>
          <a:blip r:embed="rId6"/>
          <a:stretch/>
        </p:blipFill>
        <p:spPr>
          <a:xfrm>
            <a:off x="179280" y="5013360"/>
            <a:ext cx="2592360" cy="15447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1"/>
          <p:cNvSpPr/>
          <p:nvPr/>
        </p:nvSpPr>
        <p:spPr>
          <a:xfrm>
            <a:off x="2987640" y="5084640"/>
            <a:ext cx="583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i="1" lang="it-IT" sz="1800" spc="-1" strike="noStrike">
                <a:solidFill>
                  <a:srgbClr val="009999"/>
                </a:solidFill>
                <a:latin typeface="Arial"/>
              </a:rPr>
              <a:t>Festa del lavor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i="1" lang="it-IT" sz="1800" spc="-1" strike="noStrike">
                <a:solidFill>
                  <a:srgbClr val="009999"/>
                </a:solidFill>
                <a:latin typeface="Arial"/>
              </a:rPr>
              <a:t>Festa dei lavorator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è una festività mondiale celebrata il 1º maggio di ogni anno che intende ricordare l'impegno del movimento sindacale ed i traguardi raggiunti in campo economico e sociale dai lavorator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2"/>
          <p:cNvSpPr/>
          <p:nvPr/>
        </p:nvSpPr>
        <p:spPr>
          <a:xfrm>
            <a:off x="3419640" y="5373720"/>
            <a:ext cx="165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3"/>
          <p:cNvSpPr/>
          <p:nvPr/>
        </p:nvSpPr>
        <p:spPr>
          <a:xfrm>
            <a:off x="5364000" y="537372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9" descr="tessera partito"/>
          <p:cNvPicPr/>
          <p:nvPr/>
        </p:nvPicPr>
        <p:blipFill>
          <a:blip r:embed="rId1"/>
          <a:srcRect l="10079" t="3995" r="11199" b="3995"/>
          <a:stretch/>
        </p:blipFill>
        <p:spPr>
          <a:xfrm>
            <a:off x="2041560" y="1790640"/>
            <a:ext cx="506088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"/>
          <p:cNvSpPr/>
          <p:nvPr/>
        </p:nvSpPr>
        <p:spPr>
          <a:xfrm>
            <a:off x="357120" y="2928960"/>
            <a:ext cx="2643120" cy="368280"/>
          </a:xfrm>
          <a:prstGeom prst="rect">
            <a:avLst/>
          </a:prstGeom>
          <a:noFill/>
          <a:ln w="381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 </a:t>
            </a:r>
            <a:r>
              <a:rPr b="0" lang="it-IT" sz="14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RIVOLUZIONI INDUSTRI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5643720" y="2000160"/>
            <a:ext cx="2071440" cy="368280"/>
          </a:xfrm>
          <a:prstGeom prst="rect">
            <a:avLst/>
          </a:prstGeom>
          <a:noFill/>
          <a:ln w="381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la produ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5715000" y="2643120"/>
            <a:ext cx="2071800" cy="368280"/>
          </a:xfrm>
          <a:prstGeom prst="rect">
            <a:avLst/>
          </a:prstGeom>
          <a:noFill/>
          <a:ln w="381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’econo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5786280" y="4071960"/>
            <a:ext cx="2071800" cy="368280"/>
          </a:xfrm>
          <a:prstGeom prst="rect">
            <a:avLst/>
          </a:prstGeom>
          <a:noFill/>
          <a:ln w="381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socie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5715000" y="3357720"/>
            <a:ext cx="2071800" cy="368280"/>
          </a:xfrm>
          <a:prstGeom prst="rect">
            <a:avLst/>
          </a:prstGeom>
          <a:noFill/>
          <a:ln w="381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poli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500040" y="5643720"/>
            <a:ext cx="2214720" cy="307080"/>
          </a:xfrm>
          <a:prstGeom prst="rect">
            <a:avLst/>
          </a:prstGeom>
          <a:solidFill>
            <a:srgbClr val="eeece1"/>
          </a:solidFill>
          <a:ln w="381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SOCIETA’ DI MAS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7"/>
          <p:cNvSpPr/>
          <p:nvPr/>
        </p:nvSpPr>
        <p:spPr>
          <a:xfrm flipH="1">
            <a:off x="2426760" y="4286160"/>
            <a:ext cx="321804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8"/>
          <p:cNvSpPr/>
          <p:nvPr/>
        </p:nvSpPr>
        <p:spPr>
          <a:xfrm>
            <a:off x="1285920" y="3357720"/>
            <a:ext cx="500040" cy="207144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Calibri"/>
              </a:rPr>
              <a:t>determ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9"/>
          <p:cNvSpPr/>
          <p:nvPr/>
        </p:nvSpPr>
        <p:spPr>
          <a:xfrm rot="10800000">
            <a:off x="2087280" y="4141800"/>
            <a:ext cx="3714840" cy="1000080"/>
          </a:xfrm>
          <a:custGeom>
            <a:avLst/>
            <a:gdLst>
              <a:gd name="textAreaLeft" fmla="*/ 0 w 3714840"/>
              <a:gd name="textAreaRight" fmla="*/ 3594600 w 3714840"/>
              <a:gd name="textAreaTop" fmla="*/ 677880 h 1000080"/>
              <a:gd name="textAreaBottom" fmla="*/ 1000440 h 1000080"/>
            </a:gdLst>
            <a:ahLst/>
            <a:rect l="textAreaLeft" t="textAreaTop" r="textAreaRight" b="textAreaBottom"/>
            <a:pathLst>
              <a:path w="3714776" h="1000132">
                <a:moveTo>
                  <a:pt x="0" y="677869"/>
                </a:moveTo>
                <a:lnTo>
                  <a:pt x="3272268" y="677869"/>
                </a:lnTo>
                <a:lnTo>
                  <a:pt x="3272268" y="386371"/>
                </a:lnTo>
                <a:lnTo>
                  <a:pt x="3152022" y="386371"/>
                </a:lnTo>
                <a:lnTo>
                  <a:pt x="3433399" y="0"/>
                </a:lnTo>
                <a:lnTo>
                  <a:pt x="3714776" y="386371"/>
                </a:lnTo>
                <a:lnTo>
                  <a:pt x="3594530" y="386371"/>
                </a:lnTo>
                <a:lnTo>
                  <a:pt x="3594530" y="1000132"/>
                </a:lnTo>
                <a:lnTo>
                  <a:pt x="0" y="1000132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0"/>
          <p:cNvSpPr/>
          <p:nvPr/>
        </p:nvSpPr>
        <p:spPr>
          <a:xfrm>
            <a:off x="3143160" y="2714760"/>
            <a:ext cx="2357640" cy="785520"/>
          </a:xfrm>
          <a:prstGeom prst="rightArrow">
            <a:avLst>
              <a:gd name="adj1" fmla="val 50000"/>
              <a:gd name="adj2" fmla="val 4688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modific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Calibri"/>
                <a:ea typeface="Arial Unicode MS"/>
              </a:rPr>
              <a:t>RIVOLUZIONI INDUSTRIALI E SOCIETA’ DI MAS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2"/>
          <p:cNvSpPr/>
          <p:nvPr/>
        </p:nvSpPr>
        <p:spPr>
          <a:xfrm>
            <a:off x="2857680" y="5500800"/>
            <a:ext cx="2500200" cy="642960"/>
          </a:xfrm>
          <a:prstGeom prst="rightArrow">
            <a:avLst>
              <a:gd name="adj1" fmla="val 50000"/>
              <a:gd name="adj2" fmla="val 4684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modifica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3"/>
          <p:cNvSpPr/>
          <p:nvPr/>
        </p:nvSpPr>
        <p:spPr>
          <a:xfrm>
            <a:off x="5857920" y="4805280"/>
            <a:ext cx="2071800" cy="368280"/>
          </a:xfrm>
          <a:prstGeom prst="rect">
            <a:avLst/>
          </a:prstGeom>
          <a:solidFill>
            <a:srgbClr val="eeece1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partiti polit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4"/>
          <p:cNvSpPr/>
          <p:nvPr/>
        </p:nvSpPr>
        <p:spPr>
          <a:xfrm>
            <a:off x="5857920" y="5286240"/>
            <a:ext cx="2071800" cy="368280"/>
          </a:xfrm>
          <a:prstGeom prst="rect">
            <a:avLst/>
          </a:prstGeom>
          <a:solidFill>
            <a:srgbClr val="eeece1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associazioni dei lavorat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5"/>
          <p:cNvSpPr/>
          <p:nvPr/>
        </p:nvSpPr>
        <p:spPr>
          <a:xfrm>
            <a:off x="5857920" y="6072120"/>
            <a:ext cx="2071800" cy="368280"/>
          </a:xfrm>
          <a:prstGeom prst="rect">
            <a:avLst/>
          </a:prstGeom>
          <a:solidFill>
            <a:srgbClr val="eeece1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vita quotidi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3857760" y="4143240"/>
            <a:ext cx="35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Titolo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PROTAGONISTI dello sviluppo industriale furono anche gli </a:t>
            </a:r>
            <a:r>
              <a:rPr b="1" lang="it-IT" sz="3200" spc="-1" strike="noStrike">
                <a:solidFill>
                  <a:srgbClr val="ff0000"/>
                </a:solidFill>
                <a:latin typeface="Calibri"/>
              </a:rPr>
              <a:t>OPERAI</a:t>
            </a: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 che lavoravano nelle fabbriche, il cosiddett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0000"/>
                </a:solidFill>
                <a:latin typeface="Calibri"/>
              </a:rPr>
              <a:t>PROLETARIAT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PROLETAR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l termine deriva dal latino PROLES= figlio. Usato per indicare coloro che erano tanto poveri da non possedere altro se non la propria famigl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Poi sinonimo di OPERAIO delle FABBRIC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n seguito il termine </a:t>
            </a:r>
            <a:r>
              <a:rPr b="1" i="1" lang="it-IT" sz="3200" spc="-1" strike="noStrike">
                <a:solidFill>
                  <a:srgbClr val="ff0000"/>
                </a:solidFill>
                <a:latin typeface="Calibri"/>
              </a:rPr>
              <a:t>proletariato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è passato ad indicare il </a:t>
            </a:r>
            <a:r>
              <a:rPr b="1" i="1" lang="it-IT" sz="3200" spc="-1" strike="noStrike">
                <a:solidFill>
                  <a:srgbClr val="ff0000"/>
                </a:solidFill>
                <a:latin typeface="Calibri"/>
              </a:rPr>
              <a:t>ceto sociale 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di coloro che prestano la propria forza-lavoro nelle fabbric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LA QUESTIONE SOCI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Nella prima fase dell’industrializzazione, gli operai erano contadini fuggiti dalle campagne a causa delle condizioni economiche precari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erano privi di competenze specifich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costretti a lavorare con turni di 12 o 14 o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salari bas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assenza di diritti e tute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sfruttamento indiscrimina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Donne e bambini erano costretti a lavorare e pagati ancora men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LE ASSOCIZIONI OPERAI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Segnaposto contenuto 3" descr=""/>
          <p:cNvPicPr/>
          <p:nvPr/>
        </p:nvPicPr>
        <p:blipFill>
          <a:blip r:embed="rId1"/>
          <a:stretch/>
        </p:blipFill>
        <p:spPr>
          <a:xfrm>
            <a:off x="438120" y="1036800"/>
            <a:ext cx="8291520" cy="51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Segnaposto contenuto 3" descr=""/>
          <p:cNvPicPr/>
          <p:nvPr/>
        </p:nvPicPr>
        <p:blipFill>
          <a:blip r:embed="rId1"/>
          <a:stretch/>
        </p:blipFill>
        <p:spPr>
          <a:xfrm>
            <a:off x="438120" y="457200"/>
            <a:ext cx="837108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5"/>
          <p:cNvSpPr txBox="1"/>
          <p:nvPr/>
        </p:nvSpPr>
        <p:spPr>
          <a:xfrm>
            <a:off x="1187280" y="0"/>
            <a:ext cx="6648480" cy="15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igi"/>
              </a:rPr>
              <a:t>Le Prime Associazioni Operaie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igi"/>
              <a:ea typeface="Gigi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324000" y="2060640"/>
            <a:ext cx="309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179280" y="2133720"/>
            <a:ext cx="388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 Gran Bretagna nacquero le </a:t>
            </a:r>
            <a:r>
              <a:rPr b="0" i="1" lang="it-IT" sz="1800" spc="-1" strike="noStrike">
                <a:solidFill>
                  <a:srgbClr val="009999"/>
                </a:solidFill>
                <a:latin typeface="Arial"/>
              </a:rPr>
              <a:t>Trade Unions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associazioni che fecero ancora di più. Nel 1833, </a:t>
            </a:r>
            <a:r>
              <a:rPr b="0" i="1" lang="it-IT" sz="1800" spc="-1" strike="noStrike">
                <a:solidFill>
                  <a:srgbClr val="009999"/>
                </a:solidFill>
                <a:latin typeface="Arial"/>
              </a:rPr>
              <a:t>il governo ingles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ecise di </a:t>
            </a:r>
            <a:r>
              <a:rPr b="0" i="1" lang="it-IT" sz="1800" spc="-1" strike="noStrike">
                <a:solidFill>
                  <a:srgbClr val="009999"/>
                </a:solidFill>
                <a:latin typeface="Arial"/>
              </a:rPr>
              <a:t>limitare lo sfruttamento</a:t>
            </a:r>
            <a:r>
              <a:rPr b="0" lang="it-IT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i="1" lang="it-IT" sz="1800" spc="-1" strike="noStrike">
                <a:solidFill>
                  <a:srgbClr val="009999"/>
                </a:solidFill>
                <a:latin typeface="Arial"/>
              </a:rPr>
              <a:t>del</a:t>
            </a:r>
            <a:r>
              <a:rPr b="0" i="1" lang="it-IT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it-IT" sz="1800" spc="-1" strike="noStrike">
                <a:solidFill>
                  <a:srgbClr val="009999"/>
                </a:solidFill>
                <a:latin typeface="Arial"/>
              </a:rPr>
              <a:t>lavoro minoril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(i bambini sotto i 12 anni non potevano lavorare più di 8 ore al giorno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9" descr="1264597963"/>
          <p:cNvPicPr/>
          <p:nvPr/>
        </p:nvPicPr>
        <p:blipFill>
          <a:blip r:embed="rId1"/>
          <a:stretch/>
        </p:blipFill>
        <p:spPr>
          <a:xfrm>
            <a:off x="4572000" y="1557360"/>
            <a:ext cx="4091040" cy="4968720"/>
          </a:xfrm>
          <a:prstGeom prst="rect">
            <a:avLst/>
          </a:prstGeom>
          <a:ln w="0">
            <a:noFill/>
          </a:ln>
        </p:spPr>
      </p:pic>
      <p:sp>
        <p:nvSpPr>
          <p:cNvPr id="90" name="Line 10"/>
          <p:cNvSpPr/>
          <p:nvPr/>
        </p:nvSpPr>
        <p:spPr>
          <a:xfrm>
            <a:off x="971640" y="270828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1"/>
          <p:cNvSpPr/>
          <p:nvPr/>
        </p:nvSpPr>
        <p:spPr>
          <a:xfrm>
            <a:off x="826920" y="3284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2"/>
          <p:cNvSpPr/>
          <p:nvPr/>
        </p:nvSpPr>
        <p:spPr>
          <a:xfrm>
            <a:off x="1692360" y="350028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3"/>
          <p:cNvSpPr/>
          <p:nvPr/>
        </p:nvSpPr>
        <p:spPr>
          <a:xfrm>
            <a:off x="395280" y="378936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5T17:49:28Z</dcterms:created>
  <dc:creator>Francesco</dc:creator>
  <dc:description/>
  <dc:language>en-US</dc:language>
  <cp:lastModifiedBy>Marco</cp:lastModifiedBy>
  <dcterms:modified xsi:type="dcterms:W3CDTF">2013-09-14T17:47:17Z</dcterms:modified>
  <cp:revision>22</cp:revision>
  <dc:subject/>
  <dc:title>Diapositiva 1</dc:title>
</cp:coreProperties>
</file>